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2858B-45AD-4466-8DA5-647B3C74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31764-ED58-498B-95E5-B5D1948D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B941B-FA0C-4267-9745-445B1C73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7FEFD-4C23-464A-A400-CB28831D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04C3-4865-4643-A7F0-F3E61A14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FFD6-023F-42D7-B36B-1ED2A99C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7958-0F74-4FB3-8B75-2295A7FA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D4C2-4E43-4339-90BF-D3124EF6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FD82-2EFF-4209-A3E0-703E10F6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B92A-4418-49F5-9EE4-8A40DAC7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A052-6793-45DD-8165-E3DF49C8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04624-C10C-4E05-A57F-2BA461AF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15AE-4950-469C-8C7F-2CAB6F17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93D1-1006-41BF-A917-052BC5BA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1086-A257-49D2-B2E3-61886CCF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8F64-FD68-47E6-BD85-BA2F25BD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B0BF-56F6-43D3-B700-11D322BE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FBE90-F524-42BB-A0A8-F88D618E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2DE2C-5F1B-4322-B9E6-B5005E22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2A0BC-CB5F-4967-BA35-E7CD80F6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7CA6E-8F40-4346-9180-31F47627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2F66D-2F58-41CA-9F0E-CED15EE3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C2E8C-5526-46DC-BC96-1096A4CC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2BD8B-7687-42DD-84D8-27C44FAB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7960" y="694692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81720" y="694188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F927-97B5-4532-B250-3E9BD9747AA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156320" cy="7609680"/>
            <a:chOff x="0" y="0"/>
            <a:chExt cx="10156320" cy="7609680"/>
          </a:xfrm>
        </p:grpSpPr>
        <p:grpSp>
          <p:nvGrpSpPr>
            <p:cNvPr id="3" name="Group 5"/>
            <p:cNvGrpSpPr/>
            <p:nvPr/>
          </p:nvGrpSpPr>
          <p:grpSpPr>
            <a:xfrm>
              <a:off x="3047760" y="3933000"/>
              <a:ext cx="7102800" cy="3676680"/>
              <a:chOff x="3047760" y="3933000"/>
              <a:chExt cx="7102800" cy="367668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47760" y="4662720"/>
                <a:ext cx="5082480" cy="29469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353000" y="4710240"/>
                <a:ext cx="2219040" cy="143028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113800" y="5902560"/>
                <a:ext cx="5022360" cy="170712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45960" y="3933000"/>
                <a:ext cx="5304600" cy="367668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936200" y="4091760"/>
                <a:ext cx="2199960" cy="94500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59720" y="2364840"/>
              <a:ext cx="3219120" cy="27090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156320" cy="313236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71840" y="6941880"/>
            <a:ext cx="3216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25480" indent="-3175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270080" indent="-254160">
              <a:spcBef>
                <a:spcPts val="9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778040" indent="-25416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4" marL="2286000" indent="-2541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5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6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156320" cy="7609680"/>
            <a:chOff x="0" y="0"/>
            <a:chExt cx="10156320" cy="7609680"/>
          </a:xfrm>
        </p:grpSpPr>
        <p:grpSp>
          <p:nvGrpSpPr>
            <p:cNvPr id="51" name="Group 3"/>
            <p:cNvGrpSpPr/>
            <p:nvPr/>
          </p:nvGrpSpPr>
          <p:grpSpPr>
            <a:xfrm>
              <a:off x="3047760" y="3933000"/>
              <a:ext cx="7106400" cy="3676680"/>
              <a:chOff x="3047760" y="3933000"/>
              <a:chExt cx="7106400" cy="367668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47760" y="4662720"/>
                <a:ext cx="5085000" cy="29469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355160" y="4710240"/>
                <a:ext cx="2220120" cy="143028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114880" y="5902560"/>
                <a:ext cx="5024880" cy="170712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46680" y="3933000"/>
                <a:ext cx="5307480" cy="367668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938720" y="4091760"/>
                <a:ext cx="2201040" cy="94500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59720" y="2364840"/>
              <a:ext cx="3219120" cy="27090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156320" cy="313236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25480" indent="-3175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270080" indent="-254160">
              <a:spcBef>
                <a:spcPts val="9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778040" indent="-25416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4" marL="2286000" indent="-2541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5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6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7960" y="694188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71840" y="6946920"/>
            <a:ext cx="3216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81720" y="695016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4DB4-341B-419A-ABB0-84022E64FAE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1951200" y="383040"/>
            <a:ext cx="8208720" cy="37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ФАКУЛТЕТ МЕДИЦИНСКИ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Х НАУК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УНИВЕРЗИТЕТА У КРАГУЈЕВЦ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СС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2"/>
          <a:stretch/>
        </p:blipFill>
        <p:spPr>
          <a:xfrm>
            <a:off x="365040" y="237960"/>
            <a:ext cx="1162080" cy="18687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2023200" y="3024360"/>
            <a:ext cx="44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93800" y="3808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Неесенцијалне аминокиселин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50880" y="188136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Неесенцијалне аминокиселин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су оне које се синтетишу у нашем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организм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3600" spc="-1" strike="noStrike">
                <a:solidFill>
                  <a:srgbClr val="66ff33"/>
                </a:solidFill>
                <a:latin typeface="Arial"/>
                <a:ea typeface="Arial"/>
              </a:rPr>
              <a:t>глицин, аланин, серин, глутамат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66ff33"/>
                </a:solidFill>
                <a:latin typeface="Arial"/>
                <a:ea typeface="Arial"/>
              </a:rPr>
              <a:t>       </a:t>
            </a:r>
            <a:r>
              <a:rPr b="0" i="1" lang="en-US" sz="3600" spc="-1" strike="noStrike">
                <a:solidFill>
                  <a:srgbClr val="66ff33"/>
                </a:solidFill>
                <a:latin typeface="Arial"/>
                <a:ea typeface="Arial"/>
              </a:rPr>
              <a:t>аспартат, пролин, хидроксипролин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66ff33"/>
                </a:solidFill>
                <a:latin typeface="Arial"/>
                <a:ea typeface="Arial"/>
              </a:rPr>
              <a:t>       </a:t>
            </a:r>
            <a:r>
              <a:rPr b="0" i="1" lang="en-US" sz="3600" spc="-1" strike="noStrike">
                <a:solidFill>
                  <a:srgbClr val="66ff33"/>
                </a:solidFill>
                <a:latin typeface="Arial"/>
                <a:ea typeface="Arial"/>
              </a:rPr>
              <a:t>тирозин,  цистин и  цистеин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2120" y="1666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Судбина слободних аминокиселина у крви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Content Placeholder 3" descr="D:\OSS NOVI PROGRAM\SLIKE\1. aminokiseline iz krvi.jpg"/>
          <p:cNvPicPr/>
          <p:nvPr/>
        </p:nvPicPr>
        <p:blipFill>
          <a:blip r:embed="rId1"/>
          <a:srcRect l="11481" t="7633" r="9162" b="7611"/>
          <a:stretch/>
        </p:blipFill>
        <p:spPr>
          <a:xfrm>
            <a:off x="222120" y="1380960"/>
            <a:ext cx="971568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Пептидна вез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93400" y="159552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ин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полимери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повеза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ептидним веза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ептидна вез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формира  с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змеђу амино-групе једне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арбоксилне групе друге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уз издвајањ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молекула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sr-Latn-R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865080" y="5238720"/>
            <a:ext cx="84297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1760" y="952560"/>
            <a:ext cx="101602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1000"/>
          </a:bodyPr>
          <a:p>
            <a:pPr marL="308160" indent="-3081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овезивање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две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А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пептидном везом гради се дипепти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три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А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трипептид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већег броја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А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пептидним везама настају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полипептиди и протеи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Према саставу протеини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прости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(изграђени само од АК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сложени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поред протеинске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садрж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и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непротеинск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или простетичн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груп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у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Сложеним протеинима припадају: гликопротеини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липопротеини, фосфопротеини, нуклеопротеини 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хромопроте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668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Структурна организација проте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Content Placeholder 3" descr="D:\OSS NOVI PROGRAM\SLIKE\7. struktura proteina.jpg"/>
          <p:cNvPicPr/>
          <p:nvPr/>
        </p:nvPicPr>
        <p:blipFill>
          <a:blip r:embed="rId1"/>
          <a:srcRect l="15040" t="15664" r="13534" b="7225"/>
          <a:stretch/>
        </p:blipFill>
        <p:spPr>
          <a:xfrm>
            <a:off x="293760" y="1380960"/>
            <a:ext cx="950112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Структурна организација проте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1760" y="1666800"/>
            <a:ext cx="99378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имарна структур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број и редослед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A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у полип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птидн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ланц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табилизована пептид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вез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екундарна структур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α-хеликс, β-набране структур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,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сумичн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завој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α-хеликс има облик спирале, чија је структур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табилизована водоничним везама измеђ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-H  и C=O група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једног полипепт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ланц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2120" y="3808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Структурна организација проте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36320" y="1738440"/>
            <a:ext cx="94294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Терцијарна структур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еђује просторни распоред протеин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обуларни или фибриларни обли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јонск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хидрофоб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Van der Valsov-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исулфидних ве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ватернерна структур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повезивањем два или ви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ш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олипептидни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ланаца нековалентним  интермолекулски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везам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* 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хемоглоб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Улоге протеина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3760" y="159552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6000"/>
          </a:bodyPr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труктур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(нпр. α-кератин, еластин, колаге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биокатализаторск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(ензи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регулатор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(инсулин, глукагон), транспорт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(албумини, глобулини, хемоглоби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заштит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антитела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уферск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улог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ређивање конц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протеина крвне плаз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еома важ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исбаланс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казате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патолошк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стањ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ијагностички и прогностич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оказатељ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796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телесних течност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1760" y="152388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авремене аналитичке метод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идентификују око 300 различитих проте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могу бит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структурни елементи ћелија или тки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растворени у интрацел.или екстрацелуларној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теч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се разликују п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 саставу, структури, функцији, расподели 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рганизму , као и конц. у тел.течностима 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здрављу и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телесних течност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7600" y="159552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За лаб. испитивања најприступачнији су протеини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р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цереброспиналне теч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амнионске теч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еритонеалне, плеуралне теч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аливе и феце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9600" y="5238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Варење и апсорпција протеина</a:t>
            </a:r>
            <a:br>
              <a:rPr sz="32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93400" y="19526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азе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разлажу пептидну вез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ендопептидаз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епсин, трипсин, химотрипсин и еласта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Latn-R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Latn-R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егзопептида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арбоксипептида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минопептид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крвне плазм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07600" y="166680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интеза 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јетри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sr-RS" sz="2800" spc="-1" strike="noStrike">
                <a:solidFill>
                  <a:srgbClr val="66ff33"/>
                </a:solidFill>
                <a:latin typeface="Arial"/>
                <a:ea typeface="Arial"/>
              </a:rPr>
              <a:t>(*осим имуноглобулина</a:t>
            </a:r>
            <a:r>
              <a:rPr b="0" lang="sr-RS" sz="3200" spc="-1" strike="noStrike">
                <a:solidFill>
                  <a:srgbClr val="66ff33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албумини, глобулини и фибриног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нцентрација укупних проте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у плазми  око  65-85g/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у серуму 60-80 g/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различит</a:t>
            </a: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е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улог</a:t>
            </a: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жавање колоидно осмотског P плазме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транспортна , пуферска , одбрамбена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утритивна  и улога у коагулациј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796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крвне плазме - улог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65040" y="1238400"/>
            <a:ext cx="97948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3000"/>
          </a:bodyPr>
          <a:p>
            <a:pPr marL="316080" indent="-316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Одржање колоидно осмотског притиска</a:t>
            </a:r>
            <a:r>
              <a:rPr b="0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лоидно осмотски притисак проте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лазме супротставља се хидростатск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итиску крви који би довео до изласка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sr-Latn-R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з интраваскуларног прост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а тај начин одржава се стална запрем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рви у циркулациј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i="1" lang="sr-RS" sz="2400" spc="-1" strike="noStrike">
                <a:solidFill>
                  <a:srgbClr val="ffff00"/>
                </a:solidFill>
                <a:latin typeface="Arial"/>
                <a:ea typeface="Arial"/>
              </a:rPr>
              <a:t>Албумин главни носилац колоидно осмотског притиска плазм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крвне плазме - улог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07960" y="1778040"/>
            <a:ext cx="94298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2000"/>
          </a:bodyPr>
          <a:p>
            <a:pPr marL="350280" indent="-350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Транспор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етаболити, хормони, лекови и јони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ранспортују се путем крви везани 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ине плаз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Албумин транспортуј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асне киселине, билирубин, неке леков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руги протеини транспортуј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вожђе (трансферин), кортизол, тироксин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липиде, липосол.витамине, леков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крвне плазме - улог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1760" y="1523880"/>
            <a:ext cx="99378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   </a:t>
            </a:r>
            <a:r>
              <a:rPr b="0" i="1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Заштитна функц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имуноглобулини су антитела кој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безбеђују одбрану организма од инфекц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систем комплемента се састоји о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инских компонен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ећина фактора коагулације су протеинск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ирод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отеини акутне фазе - протективне ф-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(синтеза убрзана у инфламаторним реакцијама)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7960" y="3808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крвне плазме - улог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3760" y="173844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   </a:t>
            </a:r>
            <a:r>
              <a:rPr b="0" i="1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Пуферска улога</a:t>
            </a:r>
            <a:r>
              <a:rPr b="0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отеини имају улогу у одржању 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  <a:ea typeface="Arial"/>
              </a:rPr>
              <a:t>pH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крв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и физиолошком 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  <a:ea typeface="Arial"/>
              </a:rPr>
              <a:t>pH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крви, они су негатив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електрисани и могу да везују водоников јо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крвне плазм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2120" y="1595520"/>
            <a:ext cx="9786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еђивања укупних проте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Електрофор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ступак за раздвајање плазма протеина 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снову нето наелектрисања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заснива се на способности кретања раствор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протеина плазме у одговарајућем пуферу по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утицајем електр.пољ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због различитих физичко-хемијских особ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азликују се и по електроф. покретљив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9600" y="59508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Електрофореза</a:t>
            </a:r>
            <a:br>
              <a:rPr sz="54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1760" y="1738440"/>
            <a:ext cx="101602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лектрофореза плазме даје следеће категорије протеин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албумин, </a:t>
            </a: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Arial"/>
              </a:rPr>
              <a:t>β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и </a:t>
            </a: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Arial"/>
              </a:rPr>
              <a:t>γ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глобулини и фибриног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лектрофореза серум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даје исте категорије без фибриног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неких патолошких стања долази до поремећаја односа између појединих плазма проте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лектрофоретски профил – олакшава дијагно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796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Смањена конц. протеина у плазми (Хипопротеинемија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50880" y="19526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Обољења јетр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–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мањена синт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уготрајно гладовањ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едостатак аминокисе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едовољно уношење хран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ремећај у варењу и апсорпциј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Обољење бубрег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убитак протеина урин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Губитак преко ГИТ трак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Хиперпротеинемиј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већана концентрација протеина у плаз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авља се у условима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ехидратације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ка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следиц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уготрајног повраћ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ијаре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зноје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796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Албум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93760" y="123840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вантитативно најзначајнији протеин плазм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(55-65%) (концентрација око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45g/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интетише се у јет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лог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одржавање колоидно-осмотског (онкотског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итиска плаз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ранспортна (билирубин, масне кис., тироксин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ријодтиронин, кортизол, алдостерон, мног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лекови, калцијум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звор ендогених аминокисе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2160" y="3096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Calibri"/>
              </a:rPr>
              <a:t>Протеолитички ензими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Content Placeholder 3" descr="D:\OSS NOVI PROGRAM\SLIKE\5. proteolitički enzimi.jpg"/>
          <p:cNvPicPr/>
          <p:nvPr/>
        </p:nvPicPr>
        <p:blipFill>
          <a:blip r:embed="rId1"/>
          <a:srcRect l="10190" t="18321" r="9793" b="16377"/>
          <a:stretch/>
        </p:blipFill>
        <p:spPr>
          <a:xfrm>
            <a:off x="579600" y="1952640"/>
            <a:ext cx="88581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7960" y="1666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Албум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36320" y="1523880"/>
            <a:ext cx="97232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1000"/>
          </a:bodyPr>
          <a:p>
            <a:pPr marL="346320" indent="-3463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а  албумина у плазми зависи од уношења АК хра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њено одређивање може бити парамета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за процену нутритивног стату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омене конц. албум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тичу на однос слободног и везаног обли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лиганда које транспорту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. албумина утиче на метаболизам билирубина,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Ca,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асних кис., дејство хормона и леко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376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Хипоалбуминемија – праћена појавом едема (отока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22120" y="1738440"/>
          <a:ext cx="9651960" cy="5680080"/>
        </p:xfrm>
        <a:graphic>
          <a:graphicData uri="http://schemas.openxmlformats.org/drawingml/2006/table">
            <a:tbl>
              <a:tblPr/>
              <a:tblGrid>
                <a:gridCol w="4826160"/>
                <a:gridCol w="4825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i="1" lang="sr-RS" sz="2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Поремећај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a886e0"/>
                      </a:solidFill>
                    </a:lnL>
                    <a:lnR>
                      <a:noFill/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a886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i="1" lang="sr-RS" sz="2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Стањ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886e0"/>
                      </a:solidFill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a886e0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Поремећај синтез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a886e0"/>
                      </a:solidFill>
                    </a:lnL>
                    <a:lnR>
                      <a:noFill/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1ed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Обољења јетр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Малапсорпц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Малнутриц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886e0"/>
                      </a:solidFill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1edf9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Убрзан катаболиза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a886e0"/>
                      </a:solidFill>
                    </a:lnL>
                    <a:lnR>
                      <a:noFill/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Оштећење тки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Инфламац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886e0"/>
                      </a:solidFill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Губитак проте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a886e0"/>
                      </a:solidFill>
                    </a:lnL>
                    <a:lnR>
                      <a:noFill/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1ed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Нефротски синдр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Нефропатија у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- </a:t>
                      </a:r>
                      <a:r>
                        <a:rPr b="0" lang="sr-Latn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diabetesu,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Системском лупус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Ентеропатиј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Тешке опекоти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886e0"/>
                      </a:solidFill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1edf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Поремећај дистрибуциј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a886e0"/>
                      </a:solidFill>
                    </a:lnL>
                    <a:lnR>
                      <a:noFill/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Latn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Ascites (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излазак из интраваскуларног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простора  у перитонеалну течност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886e0"/>
                      </a:solidFill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Хипералбуминемиј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Значајна у дехидратациј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796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Фибриноген 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1760" y="138096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8000"/>
          </a:bodyPr>
          <a:p>
            <a:pPr marL="335160" indent="-335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интез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у јетр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електрофор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тс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β-γ регио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ормалн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нтрациј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у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лазми  2 до 4 g/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фибриногена у плаз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трудница, у току менструације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блажих болести јетр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рочито високе концентрациј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код акутних бактеријских инфекција (нпр. пнеумококних пнеумонија), сепси, реуматкој грозници и нефроз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796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Реактанти акутне фаз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21760" y="1309680"/>
            <a:ext cx="9937800" cy="560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2000"/>
          </a:bodyPr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У односу на “понашање”  у акутним стањ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(након операција, инфаркта миокарда..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лазма протеини се могу поделити н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позитивне и негативне реактанте акутне ф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зитивни реактантни акутне фа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плазма протеини чија се концентрациј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значајно ↑ у овим патолошким стањ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Ц-реактивни протеин, </a:t>
            </a: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–антитрипсин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– кисели гликопротеин, хаптоглобин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фибриноген, церулоплазм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960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Ц – Р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еактивни протеин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(CRP)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21760" y="1380960"/>
            <a:ext cx="101602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6000"/>
          </a:bodyPr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Синтетише се у јетр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у плазми  нормалнa конц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 5 mg/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RP везује полисахарид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исутне у многим бактеријама, гљивама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аразит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да се комплексира CRP постаје активато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истема комплемента и иницира опсонизацију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фагоцитозу и лизу нападнутих ћел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Препознавање, везивање и уклањање токс. супстанци из циркулациј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Ц – Р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еактивни протеин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(CRP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4" name="Content Placeholder 3" descr="D:\FARMACIJA NOVI PREDMET\crp_mechanism.jpg"/>
          <p:cNvPicPr/>
          <p:nvPr/>
        </p:nvPicPr>
        <p:blipFill>
          <a:blip r:embed="rId1"/>
          <a:stretch/>
        </p:blipFill>
        <p:spPr>
          <a:xfrm>
            <a:off x="365040" y="1809720"/>
            <a:ext cx="91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Ц – Р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еактивни протеин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(CRP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93400" y="166680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Значајан пораста CRP-а у плазми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еспецифича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присутан је у току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инфаркта миокард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стре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трау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запаље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оперативних захват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неопластичних пролиферац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668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Хаптоглоб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93400" y="138096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77000"/>
          </a:bodyPr>
          <a:p>
            <a:pPr marL="293040" indent="-293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икопротеин који се синтетише у јетр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 електрофореграм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здваја се у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2- глобулинској фракциј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авна ф-ј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везивање слободног хемоглобина у плаз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сваки молекул хаптоглобина може да веж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ва молекула хемоглоб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езивање је иреверзибилно, настали комлек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е уклања из плазме дејством ћелиј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етикулоендотелног систе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668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Хаптоглоб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21760" y="1238400"/>
            <a:ext cx="99378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0000"/>
          </a:bodyPr>
          <a:p>
            <a:pPr marL="304560" indent="-3045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еђивање хаптоглобина у плазми индиковано је у случај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р-ја акутне фазе и убрзане хемоли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↑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е хаптоглоб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р-је акутне ф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опекоти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ефротски синдр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↓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е хаптоглоб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брзана интраваскуларна хемоли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(хемолизна анемија, трансфузија крви, малариј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6680" y="7380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AU" sz="3600" spc="-1" strike="noStrike">
                <a:solidFill>
                  <a:srgbClr val="ffff00"/>
                </a:solidFill>
                <a:latin typeface="Arial"/>
              </a:rPr>
              <a:t>Варење протеина у </a:t>
            </a:r>
            <a:r>
              <a:rPr b="0" i="1" lang="sr-CS" sz="36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0" i="1" lang="en-AU" sz="3600" spc="-1" strike="noStrike">
                <a:solidFill>
                  <a:srgbClr val="ffff00"/>
                </a:solidFill>
                <a:latin typeface="Arial"/>
              </a:rPr>
              <a:t>елуцу</a:t>
            </a:r>
            <a:br>
              <a:rPr sz="54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1760" y="19526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ење протеин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започињ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у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луц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епси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ендопептида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таје активацијом неактивног прекурсор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пепсиногена под дејством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луд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г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хидролизује пептидне везе  ароматичних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АК (фенилаланин и тирозин) са другим АК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223040" y="166680"/>
            <a:ext cx="269100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9600" y="3808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Церулоплазмин - </a:t>
            </a:r>
            <a:r>
              <a:rPr b="0" i="1" lang="el-GR" sz="3600" spc="-1" strike="noStrike">
                <a:solidFill>
                  <a:srgbClr val="ffff00"/>
                </a:solidFill>
                <a:latin typeface="Arial"/>
                <a:ea typeface="Arial"/>
              </a:rPr>
              <a:t>α</a:t>
            </a:r>
            <a:r>
              <a:rPr b="0" i="1" lang="sr-RS" sz="36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-гликопротеин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21760" y="145260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астоји се 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једног полипеп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ланца и 6 до 7 атома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бакр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Функције церулоплазмин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ензимска активност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"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ферооксидаз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" </a:t>
            </a: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атализује оксидациј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Fe(ll)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Fe(lll),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шт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могућава везивање гвожђа за трансфер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око 95% укупне количине бакра у плаз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садржано је у структури церулоплазм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делује као антиоксидан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Церулоплазм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9600" y="1595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асни реактант акутне ф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↑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е церулоплазм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инфекцијама, малигним болест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рауми, болести ретикулоендотел.си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нф-је или опструкције жучних путе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↓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е  церулоплазм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д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Wilson-ove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алапсорпције, малнутриције, нефр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ешких обољења јет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Трансферин –  </a:t>
            </a:r>
            <a:r>
              <a:rPr b="0" i="1" lang="el-GR" sz="3600" spc="-1" strike="noStrike">
                <a:solidFill>
                  <a:srgbClr val="ffff00"/>
                </a:solidFill>
                <a:latin typeface="Arial"/>
                <a:ea typeface="Arial"/>
              </a:rPr>
              <a:t>β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1- гликопроте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7600" y="180972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оже да веже дв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va Fe(lll)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о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рансферин у плазми везуј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e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апсорбовано и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игестивног тракта и транспортује га до јетре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ћелија које корист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e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за синтезу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Hb,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иоглобина, цитохро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а трансферина у плазми зависи од расположивости гвожђ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недостатку гвожђа концентрациј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рансферина у плазми расте због ↑ синте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Трансфер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22120" y="1778040"/>
            <a:ext cx="97156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сле везивања за рецептор ослобађа се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је преузима ћелија, док се апотрансфери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раћа поново у плазму где може поново д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рши ф-ју транспортног проте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д нормалним околностима око 1/3 трансферина засићена је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Fe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ок је преостала количина слобод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Трансферин – значај одређив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93760" y="1738440"/>
            <a:ext cx="95011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 диференцијалној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Dg.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анемија и праћењу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T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ако је концентрација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Fe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сниж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ижи је и проценат засићења трансфер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вожђе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ко је анемија последица поремећаја уградње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Fe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у Ер, концентрација транферина је снижена или нормална а степен засићења вис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65040" y="1666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Трансферин – значај одређив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93760" y="1309680"/>
            <a:ext cx="98661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70000"/>
          </a:bodyPr>
          <a:p>
            <a:pPr marL="266400" indent="-266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Негативни реактант акутне ф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↓ концентрације код инфламаторних 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алигних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Неспецифично снижен к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алнутриције, хроничних болести јет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тања праћених губитком прот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(нефротски  синдром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↑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е трансфер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трудноћ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току примене естрог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Имуноглобулин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93400" y="17384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беланчевине које се синтетишу као одгово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на присуство антигена (Аг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рше ф-ју антитела (Ат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Обезбеђују хуморалну заштиту организ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епознајући антиге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ницирајући механизам за њихово уништењ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212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Имуноглобулин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21760" y="1166760"/>
            <a:ext cx="99378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64000"/>
          </a:bodyPr>
          <a:p>
            <a:pPr marL="243720" indent="-2437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Синтеза антител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у плазмоцитима који настају трансформациј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Б - лимфоцита након стимулације Аг у слези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лимфним жлездама, костној срж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Плазмоцити секретују А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исоко специфич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пособна да вежу А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твара се комплекс Аг-А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Ат – беланчевине из групе глоб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због ф-је у имунолошком одговору називају с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муноглобулин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932040" y="592200"/>
            <a:ext cx="8718480" cy="65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Имуноглобулин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ема структури и биолошким својств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муноглобулини се сврставају у 5 основни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лас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Ig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- Ig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- Ig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- Ig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- I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AU" sz="3600" spc="-1" strike="noStrike">
                <a:solidFill>
                  <a:srgbClr val="ffff00"/>
                </a:solidFill>
                <a:latin typeface="Arial"/>
              </a:rPr>
              <a:t>Варење протеина у </a:t>
            </a:r>
            <a:r>
              <a:rPr b="0" i="1" lang="sr-CS" sz="3600" spc="-1" strike="noStrike">
                <a:solidFill>
                  <a:srgbClr val="ffff00"/>
                </a:solidFill>
                <a:latin typeface="Arial"/>
              </a:rPr>
              <a:t>танком цреву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07960" y="17384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Ензими  панкреаса  секретују се из егзокриног панкреаса у црева као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неактивни прекурсор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Ту спадају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трипсиноген, химотрипсиноген, про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карбоксипептидаза А и Б и про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еластаз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Централни догађај у активацији  панкреасних проензима је 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  <a:ea typeface="Arial"/>
              </a:rPr>
              <a:t>активација трипсиногена у трипсин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дејством цревне ентерокиназ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Трипсин делује аутокаталитички на трипсиноген и каталитички на химотрипсиноген и еластазу које преводи у одговарајуће активне облике</a:t>
            </a:r>
            <a:r>
              <a:rPr b="0" lang="sr-C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2120" y="309600"/>
            <a:ext cx="97236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Снижење концентрације имуноглобул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36680" y="17384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Поремећај стварања имуноглобулина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лимфоидни малигнитети,токсичне р-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нсуфицијенција бубрега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abetes mellit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лекови: фенитоин, пенициламин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евремено рођена де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Губитак имуноглобулина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утем бубрега (нефротски синдром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ИТ тракта (ентеропатиј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еко коже (опекотин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7600" y="309600"/>
            <a:ext cx="96519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овећање</a:t>
            </a:r>
            <a:r>
              <a:rPr b="0" i="1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е имуноглобул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36680" y="1452600"/>
            <a:ext cx="101440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Инфекциј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жне, цревне, респираторне 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g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ирусне инф-је, маларија –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Ig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хрон.бактеријске инф-је – св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нтраутерине инф-је  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gM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 крви пупчани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Аутоимуне реакције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– предоминир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Ig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бољења јет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хронични активни хепатитис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Ig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G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g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Алергијске р-је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Ig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4000" spc="-1" strike="noStrike">
                <a:solidFill>
                  <a:srgbClr val="ffff00"/>
                </a:solidFill>
                <a:latin typeface="Arial"/>
                <a:ea typeface="Arial"/>
              </a:rPr>
              <a:t>Протеинуриј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исуство протеина у урину у количини већој од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50 mg/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1,73m</a:t>
            </a:r>
            <a:r>
              <a:rPr b="0" lang="sr-Latn-C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24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 u="sng">
                <a:solidFill>
                  <a:srgbClr val="00cc00"/>
                </a:solidFill>
                <a:uFillTx/>
                <a:latin typeface="Arial"/>
                <a:ea typeface="Arial"/>
              </a:rPr>
              <a:t>Протеинуриј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1) функционална или асимптоматс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2) органс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еренал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ренал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стренал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3) парапротеинур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6" name="Picture 2" descr="http://www.unckidneycenter.org/images/capillary.jpg"/>
          <p:cNvPicPr/>
          <p:nvPr/>
        </p:nvPicPr>
        <p:blipFill>
          <a:blip r:embed="rId1"/>
          <a:stretch/>
        </p:blipFill>
        <p:spPr>
          <a:xfrm>
            <a:off x="5222880" y="4167360"/>
            <a:ext cx="46544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Реналне протеинур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07960" y="18097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 u="sng">
                <a:solidFill>
                  <a:srgbClr val="00cc00"/>
                </a:solidFill>
                <a:uFillTx/>
                <a:latin typeface="Arial"/>
                <a:ea typeface="Arial"/>
              </a:rPr>
              <a:t>Гломерулар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следица оштећења гломерул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убитак протеина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&gt;2g</a:t>
            </a:r>
            <a:r>
              <a:rPr b="0" lang="sr-Latn-RS" sz="3200" spc="-1" strike="noStrike">
                <a:solidFill>
                  <a:srgbClr val="00cc00"/>
                </a:solidFill>
                <a:latin typeface="Arial"/>
                <a:ea typeface="Arial"/>
              </a:rPr>
              <a:t>/24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убе се протеини велике молекулске мас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еловање токсина,  инфекција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аскуларних 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- </a:t>
            </a: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акутни постстрептококни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гломерулонефрити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- </a:t>
            </a: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нефротски синдр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9" name="Picture 2" descr="http://www.unckidneycenter.org/images/capillary.jpg"/>
          <p:cNvPicPr/>
          <p:nvPr/>
        </p:nvPicPr>
        <p:blipFill>
          <a:blip r:embed="rId1"/>
          <a:stretch/>
        </p:blipFill>
        <p:spPr>
          <a:xfrm>
            <a:off x="6437160" y="237960"/>
            <a:ext cx="34610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Реналне протеинур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79600" y="12384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8000"/>
          </a:bodyPr>
          <a:p>
            <a:pPr marL="335160" indent="-3351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 u="sng">
                <a:solidFill>
                  <a:srgbClr val="00cc00"/>
                </a:solidFill>
                <a:uFillTx/>
                <a:latin typeface="Arial"/>
                <a:ea typeface="Arial"/>
              </a:rPr>
              <a:t>Тубулар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губитак протеина </a:t>
            </a:r>
            <a:r>
              <a:rPr b="0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1-3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g</a:t>
            </a:r>
            <a:r>
              <a:rPr b="0" lang="sr-Latn-RS" sz="2800" spc="-1" strike="noStrike">
                <a:solidFill>
                  <a:srgbClr val="00cc00"/>
                </a:solidFill>
                <a:latin typeface="Arial"/>
                <a:ea typeface="Arial"/>
              </a:rPr>
              <a:t>/24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благе до умере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излучују се протеини ниске РММ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2-микроглобулин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акутне тубуларне некро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хроничног нефрити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пијелонефрити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реналне трансплантациј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интоксикације тешким метали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</a:t>
            </a:r>
            <a:r>
              <a:rPr b="0" i="1" lang="sr-Latn-CS" sz="2800" spc="-1" strike="noStrike">
                <a:solidFill>
                  <a:srgbClr val="00cc00"/>
                </a:solidFill>
                <a:latin typeface="Arial"/>
                <a:ea typeface="Arial"/>
              </a:rPr>
              <a:t>Wilsonove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боле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cc00"/>
                </a:solidFill>
                <a:latin typeface="Arial"/>
                <a:ea typeface="Arial"/>
              </a:rPr>
              <a:t>Функционалне протеинур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ортостатска протеинур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злагање претераној топлоти/ хладноћ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физичко вежбањ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рудноћ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“марш протеинурија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Picture 2" descr="http://www.blic.rs/data/images/2011-09-10/174724_vojna-parada-foto-milos-peric-0033_origh.jpg"/>
          <p:cNvPicPr/>
          <p:nvPr/>
        </p:nvPicPr>
        <p:blipFill>
          <a:blip r:embed="rId1"/>
          <a:stretch/>
        </p:blipFill>
        <p:spPr>
          <a:xfrm>
            <a:off x="846000" y="4952880"/>
            <a:ext cx="4233960" cy="2428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http://www.grupko.rs/uploaded_pictures/content/ponude/450x320/690-dinara-umesto-2-000-dinara-za-mesec-dana-vezbanja-u-teretani-sa-kardio-programom-sada-je-pravo-vreme-da-se-pokrenete-128.jpg"/>
          <p:cNvPicPr/>
          <p:nvPr/>
        </p:nvPicPr>
        <p:blipFill>
          <a:blip r:embed="rId2"/>
          <a:stretch/>
        </p:blipFill>
        <p:spPr>
          <a:xfrm>
            <a:off x="5722920" y="4952880"/>
            <a:ext cx="341784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507960" y="380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74000"/>
          </a:bodyPr>
          <a:p>
            <a:pPr marL="281520" indent="-2815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4000" spc="-1" strike="noStrike">
                <a:solidFill>
                  <a:srgbClr val="ffff00"/>
                </a:solidFill>
                <a:latin typeface="Arial"/>
                <a:ea typeface="Arial"/>
              </a:rPr>
              <a:t>Пререналне протеинуриј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хипертенз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конгестивно срчано оштећењ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дехидратац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4000" spc="-1" strike="noStrike">
                <a:solidFill>
                  <a:srgbClr val="ffff00"/>
                </a:solidFill>
                <a:latin typeface="Arial"/>
                <a:ea typeface="Arial"/>
              </a:rPr>
              <a:t>Постреналне протеинуриј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cc00"/>
                </a:solidFill>
                <a:latin typeface="Arial"/>
                <a:ea typeface="Arial"/>
              </a:rPr>
              <a:t>   </a:t>
            </a:r>
            <a:r>
              <a:rPr b="0" i="1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i="1" lang="sr-RS" sz="3600" spc="-1" strike="noStrike">
                <a:solidFill>
                  <a:srgbClr val="00cc00"/>
                </a:solidFill>
                <a:latin typeface="Arial"/>
                <a:ea typeface="Arial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Обољења (инфективна или малигна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cc00"/>
                </a:solidFill>
                <a:latin typeface="Arial"/>
                <a:ea typeface="Arial"/>
              </a:rPr>
              <a:t>   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мокраћне бешик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уретер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уретр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простат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7960" y="5238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92d050"/>
                </a:solidFill>
                <a:latin typeface="Arial"/>
                <a:ea typeface="Arial"/>
              </a:rPr>
              <a:t>Парапротеинурија </a:t>
            </a:r>
            <a:br>
              <a:rPr sz="3600"/>
            </a:br>
            <a:r>
              <a:rPr b="0" i="1" lang="sr-RS" sz="3600" spc="-1" strike="noStrike">
                <a:solidFill>
                  <a:srgbClr val="92d050"/>
                </a:solidFill>
                <a:latin typeface="Arial"/>
                <a:ea typeface="Arial"/>
              </a:rPr>
              <a:t>   - </a:t>
            </a:r>
            <a:r>
              <a:rPr b="1" i="1" lang="sr-RS" sz="3200" spc="-1" strike="noStrike">
                <a:solidFill>
                  <a:srgbClr val="ffff00"/>
                </a:solidFill>
                <a:latin typeface="Garamond"/>
              </a:rPr>
              <a:t>Појава парапротеина у мокраћи</a:t>
            </a:r>
            <a:br>
              <a:rPr sz="36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07960" y="1595520"/>
            <a:ext cx="94298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2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зр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грешка у синтези тешких и лаких ланаца имуноглобулин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Bence-Jones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ов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protein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пецифичан нискомолекуларни протеин који се излучује у урину код више од половине пацијената са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мултиплим мијеломом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 урину пацијената са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макроглобулинемиј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агулише на Т од 45-60</a:t>
            </a:r>
            <a:r>
              <a:rPr b="0" lang="sr-R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, поново с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аствара даљим загревањем до кључ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8582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урије – </a:t>
            </a:r>
            <a:r>
              <a:rPr b="0" i="1" lang="sr-RS" sz="3600" spc="-1" strike="noStrike">
                <a:solidFill>
                  <a:srgbClr val="ffcc00"/>
                </a:solidFill>
                <a:latin typeface="Arial"/>
                <a:ea typeface="Arial"/>
              </a:rPr>
              <a:t>лабораторијски тестови за одређивање протеина у урину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79600" y="19526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Квалитативно одређивањ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естови са реагенс трака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ест са сулфосалицилном кисел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Квантитативно одређивање (24</a:t>
            </a:r>
            <a:r>
              <a:rPr b="0" i="1" lang="sr-Latn-RS" sz="3200" spc="-1" strike="noStrike">
                <a:solidFill>
                  <a:srgbClr val="00cc00"/>
                </a:solidFill>
                <a:latin typeface="Arial"/>
                <a:ea typeface="Arial"/>
              </a:rPr>
              <a:t> h</a:t>
            </a: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 урин</a:t>
            </a:r>
            <a:r>
              <a:rPr b="0" i="1" lang="sr-Latn-RS" sz="3200" spc="-1" strike="noStrike">
                <a:solidFill>
                  <a:srgbClr val="00cc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биурет мето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етода везивања спец. бо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урбидиметријс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Електрофор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1" name="Picture 6" descr="http://www.vet.uga.edu/ivcvm/courses/vpat5215/urinary/uremia/images/F06255.jpg"/>
          <p:cNvPicPr/>
          <p:nvPr/>
        </p:nvPicPr>
        <p:blipFill>
          <a:blip r:embed="rId1"/>
          <a:stretch/>
        </p:blipFill>
        <p:spPr>
          <a:xfrm>
            <a:off x="6794640" y="2023920"/>
            <a:ext cx="100008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1760" y="452520"/>
            <a:ext cx="10160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урије – доказивање тест тракам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6920" indent="-376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протеини из урина мењају боју индикато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(тетрабромфенол плаво) од жуте преко плаво-зелене до плаве, без промене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p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ff0000"/>
                </a:solidFill>
                <a:latin typeface="Arial"/>
                <a:ea typeface="Arial"/>
              </a:rPr>
              <a:t>Лажно позитивни резултат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алкалан урин, контаминација узорка или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посуд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хематуриј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висока релативна густина ури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Лажно негативни резултат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глобулини,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Bence-Jones-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ови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протеи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AU" sz="3600" spc="-1" strike="noStrike">
                <a:solidFill>
                  <a:srgbClr val="ffff00"/>
                </a:solidFill>
                <a:latin typeface="Arial"/>
              </a:rPr>
              <a:t>Варење протеина у </a:t>
            </a:r>
            <a:r>
              <a:rPr b="0" i="1" lang="sr-CS" sz="3600" spc="-1" strike="noStrike">
                <a:solidFill>
                  <a:srgbClr val="ffff00"/>
                </a:solidFill>
                <a:latin typeface="Arial"/>
              </a:rPr>
              <a:t>танком цреву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  <a:ea typeface="Arial"/>
              </a:rPr>
              <a:t>Трипси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-  ендопептидаза, раскида пептидне ве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између базних АК (лизина и аргинина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-  делује при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p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вредности од 7,5-9,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Химотрипси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раскида пептидне везе које град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роматичне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Е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ластаза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ептидне везе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змеђу неутралних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А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1008000" y="380880"/>
          <a:ext cx="8072640" cy="6500880"/>
        </p:xfrm>
        <a:graphic>
          <a:graphicData uri="http://schemas.openxmlformats.org/drawingml/2006/table">
            <a:tbl>
              <a:tblPr/>
              <a:tblGrid>
                <a:gridCol w="2691000"/>
                <a:gridCol w="3128760"/>
                <a:gridCol w="2252880"/>
              </a:tblGrid>
              <a:tr h="12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SA </a:t>
                      </a: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езулт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замућење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у арб.јед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879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пи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879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иближна концентрација протеина у </a:t>
                      </a: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879cb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Негативан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Нема замућењ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&lt;</a:t>
                      </a:r>
                      <a:r>
                        <a:rPr b="1" lang="sr-Latn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0m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Тра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Једва видљиво замућењ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 </a:t>
                      </a:r>
                      <a:r>
                        <a:rPr b="1" lang="sr-Latn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0-200m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Видљиво замућењ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без гранулац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 </a:t>
                      </a:r>
                      <a:r>
                        <a:rPr b="1" lang="sr-Latn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300m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Замућење са гранулацијом без флокулац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 </a:t>
                      </a:r>
                      <a:r>
                        <a:rPr b="1" lang="sr-Latn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3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Замућење са гранулацијама и флокулација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 </a:t>
                      </a:r>
                      <a:r>
                        <a:rPr b="1" lang="sr-Latn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3-5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4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Грудва преципитираних проте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&gt;5</a:t>
                      </a:r>
                      <a:r>
                        <a:rPr b="1" lang="sr-Latn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</a:tr>
            </a:tbl>
          </a:graphicData>
        </a:graphic>
      </p:graphicFrame>
      <p:sp>
        <p:nvSpPr>
          <p:cNvPr id="225" name="Rectangle 6"/>
          <p:cNvSpPr/>
          <p:nvPr/>
        </p:nvSpPr>
        <p:spPr>
          <a:xfrm>
            <a:off x="2293920" y="6973920"/>
            <a:ext cx="507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Табела:Резултати теста са сулфосалицилном киселино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c000"/>
                </a:solidFill>
                <a:latin typeface="Arial"/>
                <a:ea typeface="Arial"/>
              </a:rPr>
              <a:t>Приказ случаја 1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Мушкарац старости 44 године, примљен је у болницу  са отоком лица који траје 6-8 недеља уназад. На основу анамнестичких података, лекар сазнаје да је отеченост капака трајала већ недељама и да пацијент од детињства има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тип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I.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Поред отечености лица лекар је приметио и отоке на ногама. Пацијент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такође наводи и да  је имао обострану упалу крајника два месеца пре пријема у болниц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93760" y="523800"/>
            <a:ext cx="94298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Приказ случаја 1- Лабораторијски налази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93400" y="180972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(g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/L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) 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52 g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/L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↓                64 - 83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Албумини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(g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/L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)  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18 g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/L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↓                35- 52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Холестерол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(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mmol/L)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12,2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↑             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3,1-5,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ТГЛ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mmol/L)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5,5 ↑                     0,1-1,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фосфор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(mmol/L)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2,18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 ↑                   0,8-1,6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калцијум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(mmol/L)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1,8  ↓                     2,02-2,6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уреа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(mmol/L)      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22,5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↑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3,0-8,0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Протеинурија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0" lang="pt-BR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pt-BR" sz="2800" spc="-1" strike="noStrike">
                <a:solidFill>
                  <a:srgbClr val="ffff00"/>
                </a:solidFill>
                <a:latin typeface="Arial"/>
                <a:ea typeface="Arial"/>
              </a:rPr>
              <a:t> 9,2g /24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Клиренс креатинина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0,5 ml</a:t>
            </a:r>
            <a:r>
              <a:rPr b="0" lang="pt-BR" sz="2800" spc="-1" strike="noStrike">
                <a:solidFill>
                  <a:srgbClr val="ffff00"/>
                </a:solidFill>
                <a:latin typeface="Arial"/>
                <a:ea typeface="Arial"/>
              </a:rPr>
              <a:t>/sec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↓</a:t>
            </a:r>
            <a:r>
              <a:rPr b="0" lang="pt-BR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 1,47-2,2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1760" y="237960"/>
            <a:ext cx="96519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Приказ случаја 1 – Одговорити на пит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36680" y="1309680"/>
            <a:ext cx="95011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1. Које су улоге протеина крвне плазм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2. Навести узроке хипопоротеинемиј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3. Објаснити најважније улоге албумина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4. Који су узроци хипоалбуминемиј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- Зашто пацијент има оток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5. Да ли би требало проверити конц.калцијума</a:t>
            </a:r>
            <a:r>
              <a:rPr b="0" lang="sr-Latn-R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у серуму и зашто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6. Протеинурије – дефиниција и подел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7. Који су лабораторијски тестови за одређивање протеина у урину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Приказ случаја 2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7600" y="17780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2960" indent="-372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Мушкарац старости 25 година јавља се лекару због малаксалости,  продуктивног кашља и температуре 39,5</a:t>
            </a:r>
            <a:r>
              <a:rPr b="0" lang="sr-R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која траје два дана уназад. Прегледом на плућима установљен је пооштрен дисајни шум, 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RDG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плућа показује промене које иду у прилог обостраној бронхопнеумониј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Лабораторијски налаз: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реф.вред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Леукоцити                                20.06 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  <a:ea typeface="Arial"/>
              </a:rPr>
              <a:t>x 10</a:t>
            </a:r>
            <a:r>
              <a:rPr b="0" lang="sr-Latn-R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9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  <a:ea typeface="Arial"/>
              </a:rPr>
              <a:t>/L      (3.70-10.00) x 10</a:t>
            </a:r>
            <a:r>
              <a:rPr b="0" lang="sr-Latn-R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9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  <a:ea typeface="Arial"/>
              </a:rPr>
              <a:t>/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Неутрални гранулоцити%      85.09                  (44.00-72.00)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Arial"/>
                <a:ea typeface="Arial"/>
              </a:rPr>
              <a:t>CRP                                          120                     (0.0-5.0) mg/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1760" y="380880"/>
            <a:ext cx="96519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Приказ случаја 2 – Одговорити на пит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93760" y="180972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3000"/>
          </a:bodyPr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Шта су реактанти акутне фаз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авести позитивне реактанте акутне ф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 startAt="2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ја је улога Ц-реактивног протеина у организм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 startAt="2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сим запаљенских процеса у којим још стањима Ц-реактивни протеин показује пораст концентрације у серум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 startAt="2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ји је значај пораста неутрофилних гранулоцита код нашег пацијента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 startAt="2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 startAt="2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AU" sz="3600" spc="-1" strike="noStrike">
                <a:solidFill>
                  <a:srgbClr val="ffff00"/>
                </a:solidFill>
                <a:latin typeface="Arial"/>
              </a:rPr>
              <a:t>Варење протеина у </a:t>
            </a:r>
            <a:r>
              <a:rPr b="0" i="1" lang="sr-CS" sz="3600" spc="-1" strike="noStrike">
                <a:solidFill>
                  <a:srgbClr val="ffff00"/>
                </a:solidFill>
                <a:latin typeface="Arial"/>
              </a:rPr>
              <a:t>танком цреву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7000"/>
          </a:bodyPr>
          <a:p>
            <a:pPr marL="369360" indent="-369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Карбоксипептидаза 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одваја ароматичне и алифатичне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А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са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C (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Ц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терминалног крај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Карбоксипептидаза Б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одваја базне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А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са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C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Ц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терминалног крај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Варење протеина наставља се у танком цреву, где се дејством аминопептидаза и дипептидаза дипептиди и трипептиди разлажу на појединачне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А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5040" y="6667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АК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се апсорбују из лумена танког црева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54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6920" indent="-376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секундарним N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-зависним активним транспорт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олакшаном дифузиј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У мембрани ентероцита постоји више система за транспорт АК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неутралних аминокисели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базних аминокиселина и цистина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киселих аминокиселина и амида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цикличних аминокиселина, иминокиселина 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глици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Есенцијалне аминокиселин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73844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рочито је значајна апсорпција есенцијалних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К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тј. оних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које се не синтетишу у наше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рганизму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већ их уносимо искључиво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хра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Есенцијалне аминокиселине су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триптофан, фенилаланин, лизин, треонин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валин, метионин, леуцин, изолеуцин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аргинин и хистид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KC KG Lab</cp:lastModifiedBy>
  <dcterms:modified xsi:type="dcterms:W3CDTF">2020-10-01T08:03:29Z</dcterms:modified>
  <cp:revision>267</cp:revision>
  <dc:subject/>
  <dc:title>PowerPoint Presentation</dc:title>
</cp:coreProperties>
</file>